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9C9387C-86CD-49F4-A517-265DC876E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494-BBA8-42CC-962B-6BF8669F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204-4439-4316-A250-E5D3C9F1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462-79F7-4F5B-9BAB-63973C52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7EF-7234-4AAE-B762-9CEF7926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A3E4-D70F-4FC8-AF9B-448A20D3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C6DF-73B7-4463-B46E-B1885C45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3604-A616-4729-814A-FACA2F89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B126-AED2-4A50-9AEC-AFF9B1E4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E288-4268-4C39-B519-15F5C8DC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E71F-820C-4528-9654-D39E1145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6F45-BB2B-47E2-A8D4-60316D4E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C8A-E28C-4314-B41D-C421C725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3622-328F-4408-9AF2-BEF4A352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3299-C3C7-4E3B-8EFA-57D0F2DE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C42D-23C6-4DFE-8CD3-0049EAA0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7ABA-DDB7-4E04-8D77-C2BA9AD9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67DC-5DBB-44D5-A5C0-2832E9A9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0C1-D255-4E81-9E57-6EB1DE8C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B4A-CB41-4013-A1E4-DC43B98E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6B79-F17D-4EB3-8155-4AC744EB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C12-D9DB-44DD-B88B-5EE125A8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709-588A-4053-82DB-B5A9896B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A80-763A-4D09-A9DA-E7DD99F6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D1A-9526-49E7-A4C6-8BAF415F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E3EE-BE5E-42C6-81CD-F8C27EED0A88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FE8A-444B-4321-8C1B-65152475012D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B62C-1000-41F1-8D69-C4B54B3FCC21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3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Wendy Telf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0440" y="560160"/>
            <a:ext cx="82072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Patterning &amp; Linear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Relations Manipulatives &amp; Technology Carouse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60" y="2932200"/>
            <a:ext cx="45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b78c"/>
                </a:solidFill>
                <a:latin typeface="Century Gothic"/>
              </a:rPr>
              <a:t>Explore these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4800" y="3470400"/>
            <a:ext cx="813276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A:  TI-Nspire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F:   Square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B:  CBR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G:  Growing Pattern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C:  Gizmos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H:  Real-lif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D:  CLIPS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I:  Matching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E:   GSP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J:  Algebra Tiles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74600" y="2378160"/>
            <a:ext cx="699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do th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 </a:t>
            </a: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connect to Big Ideas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Learning Goals?</a:t>
            </a: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0840" y="2787480"/>
            <a:ext cx="3882960" cy="3799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5440" y="1374840"/>
            <a:ext cx="847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What Mathematical Processes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did you experience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when answering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the tas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02480" y="2376720"/>
            <a:ext cx="6500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can th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help students over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tumbling bloc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87560" y="2038320"/>
            <a:ext cx="696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What open or parallel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questions could be asked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so all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 </a:t>
            </a: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ave an entry poi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33440" y="2711520"/>
            <a:ext cx="8307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can each activity be used to promote math discour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218960"/>
            <a:ext cx="8480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Reflect on today’s activities in your Important Book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ich activities would I like to integrate into my program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do I need to learn more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Wendy Telford User</cp:lastModifiedBy>
  <dcterms:modified xsi:type="dcterms:W3CDTF">2009-08-24T04:29:58Z</dcterms:modified>
  <cp:revision>149</cp:revision>
  <dc:subject/>
  <dc:title>Math GAINS 2008-09</dc:title>
</cp:coreProperties>
</file>